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408-970A-4664-932A-220F5D38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BD1-A78A-49F8-B930-A401D4EE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0DD-5A62-464F-85BC-B5E459AC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B6C-093F-4412-9918-5415BAB6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A7D0-25EF-4576-AEC4-81689453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552A-C151-46FC-B123-21DD70A8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53EC-2AD0-4B1B-9E3F-90A83037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1C1B-EC8F-4502-8DFF-B2B6E61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B556-E960-4D32-BA94-197D65AE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346A-A029-4D3F-A3FC-9D6A2AAD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30AD-7452-4F3A-A15C-EC8039C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E71-C255-422A-BB69-83C3CA84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5233-0979-467C-A6D4-D32885F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656A-CE8B-4C27-A680-666C5853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E748-F06B-4D82-BAF0-EE37D118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7702-C415-44B1-B74A-A0908050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7CE0-6AC0-46E2-A2D5-D42539F2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B88-FD51-43AC-A4EC-A2F36AF9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04B-E602-4B79-A952-35610682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5FF-BC25-4F65-A78B-D0183B7E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668-3E4D-47F6-A8B7-62B34054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2BB-B6D5-4890-A4AB-D2B548D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69A-5BD8-4E21-9F31-1D8BAE7A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107-9169-4FBD-9645-8B2E0DE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A2B0-217C-4147-AE13-2230A2C93B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4240"/>
            <a:ext cx="9144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©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Новый Акрополь-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Garamond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2133720"/>
            <a:ext cx="556272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6400440"/>
            <a:ext cx="9144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©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Новый Акрополь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50D9-E57F-4211-91F3-2BF7325664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Garamond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133720"/>
            <a:ext cx="556272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ершина всегда трудн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38280" y="39621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«Человек и горы. Восхождение к чистоте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-10044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Европ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. Эльбрус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  (5642 м), Большой Кавказ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6040" y="1052640"/>
            <a:ext cx="8251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Ази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. Джомолунгма/Эверест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 (8848 м), Гимала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28600" y="1413000"/>
            <a:ext cx="6899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Океани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. Джая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 (5029 м). о. Новая Гвине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1349280"/>
            <a:ext cx="734544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Антаркти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Массив Винсон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 (5140 м), горы Элсуорт (Западная Антарктида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1471680"/>
            <a:ext cx="6834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32000" y="779400"/>
            <a:ext cx="655308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268280"/>
            <a:ext cx="761976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42920" y="1055520"/>
            <a:ext cx="70106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0960" y="1162080"/>
            <a:ext cx="86821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00080" y="1066680"/>
            <a:ext cx="7143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179360"/>
            <a:ext cx="6756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Северная Амер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. Мак-Кинли 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(6193 м.), Аляскинский  хребет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1900080"/>
            <a:ext cx="626436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Южная Амери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г. Аконкагуа</a:t>
            </a:r>
            <a:r>
              <a:rPr b="0" i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(6960 м)</a:t>
            </a:r>
            <a:r>
              <a:rPr b="0" i="1" lang="ru-RU" sz="4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Аргентина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627280" y="1447920"/>
            <a:ext cx="3808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3300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Афр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. Килиманджаро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 (5899 м), Абиссинское нагорь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20840" y="157644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6:29:57Z</dcterms:created>
  <dc:creator>Фёдор Сумкин</dc:creator>
  <dc:description/>
  <cp:keywords/>
  <dc:language>en-US</dc:language>
  <cp:lastModifiedBy>Фёдор Сумкин</cp:lastModifiedBy>
  <dcterms:modified xsi:type="dcterms:W3CDTF">2005-05-29T11:04:41Z</dcterms:modified>
  <cp:revision>28</cp:revision>
  <dc:subject/>
  <dc:title>[Project Name] Post-Mor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51033</vt:lpwstr>
  </property>
</Properties>
</file>